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595-D5C5-47DA-8246-E67DEF41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446-0409-43D2-8DDC-E14C0883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15C-FB07-41F4-BD8F-88AAFB78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514-652E-4E94-B7A1-5F06EAB2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FC64-D3BB-40D2-834B-403AE21B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F937-65B2-4286-8EE6-3CEFC4F5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7475-644D-4FF4-9E57-55F8414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4374-D811-4AEF-ACFD-7CD3F88B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B71B-27C6-4D57-9A74-A77844C0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18F8-5930-4FC6-9D75-C7C84D31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7D38-DE9E-4494-837A-C1B4D85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978-FDFF-4A72-87A6-2905C2C4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762D-E511-4B5C-B819-1421C57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1499-D9D3-4BC7-BC41-C59EBE69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C177-108D-44A1-9E47-DB22B9E4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E0B2-A478-43A1-98A6-A625C771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14B9-658E-49DE-BD00-D3BB5497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273-DE0C-453A-B8E4-94D478C5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F4D-9529-4DB2-8E77-B13E48FA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E5A-E1D7-42E5-A871-0DF2DBF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071-D8A4-4812-A1CF-7888B3E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D6B-50EE-447A-84E8-3C19EB7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5EF-EBA7-42B2-A3DB-A6085E8F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A57-2CC8-4290-852B-E5305B84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5B4-6091-439E-8CC1-1E2426FD50D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545A-8BF4-4CAC-B4E5-54A5D4149BA5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Embedded%20Sound%201" TargetMode="External"/><Relationship Id="rId4" Type="http://schemas.microsoft.com/office/2007/relationships/media" Target="file:///tmp/home/.config/libreoffice/4/user/gallery/Embedded%20Sound%201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video" Target="file:///tmp/home/.config/libreoffice/4/user/gallery/Man%20Laugh" TargetMode="External"/><Relationship Id="rId4" Type="http://schemas.microsoft.com/office/2007/relationships/media" Target="file:///tmp/home/.config/libreoffice/4/user/gallery/Man%20Laugh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cognizing Emergenc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76920" y="5790960"/>
            <a:ext cx="396216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276360" cy="194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781680" y="5257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2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cognizing Emergenc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33560" y="4266720"/>
            <a:ext cx="510516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ing, Sight and Sm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2133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Hearing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7760" y="5486040"/>
            <a:ext cx="5715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216216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790960" y="10666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3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2133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Hearing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nds of humans that are not normal like screaming or y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reeching tires, braking glass, banging metal or sudden changes in machin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8840" y="380520"/>
            <a:ext cx="1523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igh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7760" y="5257800"/>
            <a:ext cx="5715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2860920" cy="189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867280" y="1066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7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8840" y="380520"/>
            <a:ext cx="1523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igh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clutching their chest, odd facial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ke or uncontrollable fire, downed wires or a car in an abnormal lo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2880" y="456840"/>
            <a:ext cx="1524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7760" y="5562360"/>
            <a:ext cx="57150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31156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613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2880" y="456840"/>
            <a:ext cx="1524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amiliar odor that is very strong- For example the smell chlorine but there is no pool in the ar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42670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i="1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7760" y="3429000"/>
            <a:ext cx="571500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08Z</dcterms:created>
  <dc:creator>Kraybill Campus LMS</dc:creator>
  <dc:description/>
  <dc:language>en-US</dc:language>
  <cp:lastModifiedBy>Kraybill Campus LMS</cp:lastModifiedBy>
  <dcterms:modified xsi:type="dcterms:W3CDTF">2011-05-24T13:05:50Z</dcterms:modified>
  <cp:revision>8</cp:revision>
  <dc:subject/>
  <dc:title>Recognizing Emergencies</dc:title>
</cp:coreProperties>
</file>